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269-775D-4449-8CC6-FCDFB908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4B9-583B-4720-A280-3DA2D6FA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FD9-9EBF-43E5-9990-E57E6753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1F4-8C88-4A8F-814D-50F33CAB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ADC6-737B-4E98-B05A-152CBDD9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2928-C6E6-4430-9AD2-2BBE81B9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FBCC-FA88-4D5B-B4A3-2D9CD67C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41C6-7860-4405-A608-634AA03D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0F88-B6F4-4726-B868-6F09817D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987C-CAB1-42AC-8483-5D13870C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6B54-E995-422F-B4A8-2DA33E1E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A84-1E61-465B-AF92-CDF120C2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6BD6-8774-4AEC-A1F4-D8E9B467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4214-0502-4EFE-941E-9418418B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AEB6-312E-47C6-B2F6-6A4A955A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67CE-038B-48A0-AC12-B5C80370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42F3-C717-4D17-ACA0-E4D802B1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73A66-5558-4CFC-AAAE-8F089214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FB417-83E1-40A9-9F9A-BADBA1FB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E69D4-FFE2-4463-A9AA-147B4768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84927-3ACA-4069-8834-9991EB0D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DE7A0-E035-40D8-9821-56229CA2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81F-AE1A-42D1-9F0E-1DD31B39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93904-ED35-47AE-BFCD-A96494FF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FD8AD-608D-4395-B90F-24A3FA2F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6EC10-DF5B-4F7B-BBAA-194B571A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1810-31BD-44AE-9A87-F6440D48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238C0-B10A-4532-9C30-B76D87E1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667E-7E59-4989-92EC-E2D57390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1FBB0-1B6F-4803-AC34-78196A29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9C01A-1ED2-42A0-B85E-33CA5F4C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6E6F0-DF06-4A60-8E48-268B4125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05876-8261-4691-9EFF-D5A7C802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B58-CF4D-4BC5-8EC1-22FF2702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D66AF-8BDF-4F3C-8364-A5B1A14E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16B9-B61F-41B4-8415-37F29537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AAE3C-95CC-4757-8A8E-EB5A4D68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A3A65-DA6C-4BF4-BD55-1F64B422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83A73-924C-4DF7-ADC2-21F9B7D0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55137-C279-431E-9D9A-99055861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E37C9-3A36-4108-8B09-C951DB90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6C552-B3AA-4256-BE17-1F5B09F1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E132A-26E3-4086-85E3-C444DEB6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075DD-5957-4F89-91EE-453E2A34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033-4C77-4B8E-99D2-1A20E722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F3B0C-5D85-4904-8908-28DDF144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0C63A-56D1-4AC6-96A6-0AD00B3E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EB116-F48D-4601-A826-50569F9A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44FDD-5266-4C60-ADF8-B1EB263C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F39AA-E92F-4E1B-8E34-0357C706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9E1E4-E0CF-41D2-A1B8-1B51213C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2DE15-CDFC-44D3-A92C-2F82F749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8AA2B-21AD-4F8E-AA6C-4DCEC40F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E1B0A-0107-4AA8-B49E-86156FC7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CA325-2CF9-42AB-A5BB-9A5164DE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1C4-2CC3-4177-898A-A8D1D176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0A36B-733E-4D7A-B3B1-06545BF7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74D2-9372-4CD6-8372-965F1C22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906-B90A-4D42-868E-23CA1CDC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2C8-C608-42AF-9A77-BEB46C6E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8A7E-26F6-4666-AE36-AF532F2FA957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ddddd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ddddd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ddddd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dddddd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ddddd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ddddd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ddddd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430D-D8AE-4201-9637-1DF6DBD70026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ddddd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ddddd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ddddd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dddddd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ddddd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ddddd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ddddd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643C-EE84-4054-8378-54DD9FD8E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4AF5-5B26-4E51-BA4E-11D09A2F9274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C17F-73B1-4580-931B-0E69A74FDE09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2840" y="2127240"/>
            <a:ext cx="4608360" cy="1835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Calot</a:t>
            </a:r>
            <a:r>
              <a:rPr b="0" lang="ro-RO" sz="2200" spc="-1" strike="noStrike">
                <a:solidFill>
                  <a:srgbClr val="ffffff"/>
                </a:solidFill>
                <a:latin typeface="Tw Cen MT"/>
              </a:rPr>
              <a:t>ă Andreea</a:t>
            </a:r>
            <a:endParaRPr b="0" lang="en-US" sz="2200" spc="-1" strike="noStrike">
              <a:solidFill>
                <a:srgbClr val="f8f8f8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5" descr=""/>
          <p:cNvPicPr/>
          <p:nvPr/>
        </p:nvPicPr>
        <p:blipFill>
          <a:blip r:embed="rId1"/>
          <a:stretch/>
        </p:blipFill>
        <p:spPr>
          <a:xfrm>
            <a:off x="304920" y="324000"/>
            <a:ext cx="8557920" cy="2322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"/>
          <p:cNvPicPr/>
          <p:nvPr/>
        </p:nvPicPr>
        <p:blipFill>
          <a:blip r:embed="rId2"/>
          <a:stretch/>
        </p:blipFill>
        <p:spPr>
          <a:xfrm>
            <a:off x="2133720" y="2666880"/>
            <a:ext cx="4967280" cy="354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ontent Placeholder 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038840" cy="2584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95" name=""/>
          <p:cNvSpPr txBox="1"/>
          <p:nvPr/>
        </p:nvSpPr>
        <p:spPr>
          <a:xfrm>
            <a:off x="4800600" y="2133720"/>
            <a:ext cx="40384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Si vous visitez la </a:t>
            </a:r>
            <a:r>
              <a:rPr b="0" lang="ro-RO" sz="2800" spc="-1" strike="noStrike">
                <a:solidFill>
                  <a:srgbClr val="f8f8f8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Roumanie, on pouvait voir un Roumain que conduire une charrette sur laquelle est une voiture Dacia.</a:t>
            </a:r>
            <a:endParaRPr b="0" lang="en-US" sz="2800" spc="-1" strike="noStrike">
              <a:solidFill>
                <a:srgbClr val="f8f8f8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La Roumanie a</a:t>
            </a:r>
            <a:r>
              <a:rPr b="0" lang="ro-RO" sz="2800" spc="-1" strike="noStrike">
                <a:solidFill>
                  <a:srgbClr val="f8f8f8"/>
                </a:solidFill>
                <a:latin typeface="Tw Cen MT"/>
              </a:rPr>
              <a:t>   </a:t>
            </a: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 beaucoup de beaux paysages et des monuments historiques visités par les étrangers</a:t>
            </a:r>
            <a:endParaRPr b="0" lang="en-US" sz="2800" spc="-1" strike="noStrike">
              <a:solidFill>
                <a:srgbClr val="f8f8f8"/>
              </a:solidFill>
              <a:latin typeface="Tw Cen MT"/>
            </a:endParaRPr>
          </a:p>
        </p:txBody>
      </p:sp>
      <p:pic>
        <p:nvPicPr>
          <p:cNvPr id="397" name="Content Placeholder 5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038480" cy="329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87692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Lorsque certains amis</a:t>
            </a:r>
            <a:r>
              <a:rPr b="0" lang="ro-RO" sz="2800" spc="-1" strike="noStrike">
                <a:solidFill>
                  <a:srgbClr val="f8f8f8"/>
                </a:solidFill>
                <a:latin typeface="Tw Cen MT"/>
              </a:rPr>
              <a:t>    </a:t>
            </a: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 sont venus à la Roumanie, après une longue période,  première fois ils ont visité le Palais du Parlement.</a:t>
            </a:r>
            <a:endParaRPr b="0" lang="en-US" sz="2800" spc="-1" strike="noStrike">
              <a:solidFill>
                <a:srgbClr val="f8f8f8"/>
              </a:solidFill>
              <a:latin typeface="Tw Cen MT"/>
            </a:endParaRPr>
          </a:p>
        </p:txBody>
      </p:sp>
      <p:pic>
        <p:nvPicPr>
          <p:cNvPr id="399" name="Content Placeholder 10" descr=""/>
          <p:cNvPicPr/>
          <p:nvPr/>
        </p:nvPicPr>
        <p:blipFill>
          <a:blip r:embed="rId1"/>
          <a:stretch/>
        </p:blipFill>
        <p:spPr>
          <a:xfrm>
            <a:off x="533520" y="476280"/>
            <a:ext cx="3733560" cy="2800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0680" y="3462480"/>
            <a:ext cx="3787560" cy="2743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w Cen MT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Puis ils sont allés au musée du village.</a:t>
            </a:r>
            <a:endParaRPr b="0" lang="en-US" sz="2800" spc="-1" strike="noStrike">
              <a:solidFill>
                <a:srgbClr val="f8f8f8"/>
              </a:solidFill>
              <a:latin typeface="Tw Cen MT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Ils ont été impressionnés par les maisons traditionnelles.</a:t>
            </a:r>
            <a:endParaRPr b="0" lang="en-US" sz="2800" spc="-1" strike="noStrike">
              <a:solidFill>
                <a:srgbClr val="f8f8f8"/>
              </a:solidFill>
              <a:latin typeface="Tw Cen MT"/>
            </a:endParaRPr>
          </a:p>
        </p:txBody>
      </p:sp>
      <p:pic>
        <p:nvPicPr>
          <p:cNvPr id="402" name="Content Placeholder 4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038840" cy="3029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4789440" y="3529080"/>
            <a:ext cx="4013280" cy="2660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2678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05" name=""/>
          <p:cNvSpPr txBox="1"/>
          <p:nvPr/>
        </p:nvSpPr>
        <p:spPr>
          <a:xfrm>
            <a:off x="4648320" y="233172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Nous étions ensemble à la montagne. Nous avons vu de magnifiques paysages</a:t>
            </a:r>
            <a:endParaRPr b="0" lang="en-US" sz="2800" spc="-1" strike="noStrike">
              <a:solidFill>
                <a:srgbClr val="f8f8f8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599840"/>
            <a:ext cx="3276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Ils étaient très excités à propos de ce pays. Ils ont promis de revenir.</a:t>
            </a:r>
            <a:endParaRPr b="0" lang="en-US" sz="2800" spc="-1" strike="noStrike">
              <a:solidFill>
                <a:srgbClr val="f8f8f8"/>
              </a:solidFill>
              <a:latin typeface="Tw Cen MT"/>
            </a:endParaRPr>
          </a:p>
        </p:txBody>
      </p:sp>
      <p:pic>
        <p:nvPicPr>
          <p:cNvPr id="407" name="Content Placeholder 4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78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8:40:48Z</dcterms:created>
  <dc:creator>Adda</dc:creator>
  <dc:description/>
  <dc:language>en-US</dc:language>
  <cp:lastModifiedBy>Adda</cp:lastModifiedBy>
  <dcterms:modified xsi:type="dcterms:W3CDTF">2012-12-09T20:09:16Z</dcterms:modified>
  <cp:revision>7</cp:revision>
  <dc:subject/>
  <dc:title>Les vacances des roumains</dc:title>
</cp:coreProperties>
</file>